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31.png" ContentType="image/png"/>
  <Override PartName="/ppt/media/image29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304D-2964-4FCC-B1BA-D8EE1FB694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093A-A999-45BE-B3F1-6DC134A968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Закона РТ «О техническом нормировании» стало началом нового подхода к системе технического регулирования. Закон «О техническом нормировании» регулируя отношения, возникающие при разработке и утверждении обязательных для соблюдения технических требований к продукции, процессам ее разработки, производства, эксплуатации, хранения, перевозки, реализации, утилизации их отходов и выполнение работ и оказании услуг в части безопасности, устанавливает права и обязанности участников этих отношени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96B8-83C8-4830-880E-5993EA8603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D9C1-DFC2-4C31-9EEF-F891C89F32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8EFF-7D66-4DA0-A44E-C1CD75B8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3EF7-5D36-4E11-A280-2C46BB66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ABAA-DE40-48A7-AD89-248A301D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CEFE-B737-4EEF-B87C-95954279E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F83F-095F-483F-91B5-0AA631A0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D6F6-F87A-48AA-B5DF-9D878002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C984-212E-4989-B9B4-EC7F10FE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C7DD-06A6-48CA-877A-1B4E08AE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4456-734B-478B-907F-688C0CB9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99CF-FB0E-4837-96C9-2B856B25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8C38-C96E-4163-8C17-C0CE5352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7E0A-2154-402F-803F-035419CB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75F9-F69D-4413-BCB2-C5DA01B0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B94C-55C6-450D-94E7-AF017F3F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51A2-0C0C-4F76-9081-BEDDA065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9648-7AD5-42E4-998E-AD4D35944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A667-F5F5-4649-902B-1E1DBD99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EEEF1-EE2D-4368-9B80-2B7498FA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1BB57-BFB0-4AF8-BF83-C3DDAAFF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27674-C74A-4CD4-A0C1-A550E59C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C0CF0-7B78-4EAF-8A34-4350B7F4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604D9-2C01-4B8E-BC29-246067D4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8427-C5DA-496B-B431-F8AF4F3F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8FD39-EDA4-43FA-BF7B-737A6E87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EA6C6-E2CC-4DA2-8FB5-63C5C041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8B221-85C0-45F6-8DE0-45CAF4F9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3CB8B-4F04-4616-8FBC-38A94650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A51F7-24BC-4D6B-AC83-1FC03C20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B1524-0FB7-4BB5-9343-2DB5CAD7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D93B3-65E3-4E8F-A2E2-A152374D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8C2CB-0EF4-4321-8839-1B695F392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BC68F-8B2C-4D0A-9F08-F8D842EC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0402F-401D-4DA2-8E8F-A58F9470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982C-154D-43AD-B130-40A2C686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0DED9-E103-4D28-B27B-3ACE9F4B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2C595-8193-4DEE-836F-FC3A3827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94CC9-EE57-4D5B-A226-3E999081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04D78-73B8-431D-A9BB-23F36B15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0BD96-9346-4809-B2E0-68992445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5D946-4F5F-417B-841F-16E2632A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3679F-F96A-4CB4-B071-5716BC55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CD241-03A6-49DB-814B-45860BA3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84BBC-CE95-4E89-A15C-F75FDC141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5353-A8A2-4337-9FC1-59033215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20FC-B88A-4CA1-941D-72AC05B3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B6CE-BF37-4F5C-9200-DAB894BC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CA0F-0842-4554-BBF9-C64753E4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6261-07DE-4D9A-B495-86493538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766D-9654-4BB3-9022-2E1FE997A3E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1568-DCF3-4957-AC01-8B8B8D4AD19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1C40-D2AD-42F9-B34C-9E20990E391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5B44-EDEB-474C-84C4-2B093951588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7" descr="Герб РТ"/>
          <p:cNvPicPr/>
          <p:nvPr/>
        </p:nvPicPr>
        <p:blipFill>
          <a:blip r:embed="rId1"/>
          <a:stretch/>
        </p:blipFill>
        <p:spPr>
          <a:xfrm>
            <a:off x="971640" y="1916280"/>
            <a:ext cx="2808360" cy="2808000"/>
          </a:xfrm>
          <a:prstGeom prst="rect">
            <a:avLst/>
          </a:prstGeom>
          <a:ln w="0">
            <a:noFill/>
          </a:ln>
        </p:spPr>
      </p:pic>
      <p:pic>
        <p:nvPicPr>
          <p:cNvPr id="222" name="Заголовок 1" descr=""/>
          <p:cNvPicPr/>
          <p:nvPr/>
        </p:nvPicPr>
        <p:blipFill>
          <a:blip r:embed="rId2"/>
          <a:stretch/>
        </p:blipFill>
        <p:spPr>
          <a:xfrm>
            <a:off x="542880" y="255600"/>
            <a:ext cx="8058240" cy="8841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05"/>
          <p:cNvPicPr/>
          <p:nvPr/>
        </p:nvPicPr>
        <p:blipFill>
          <a:blip r:embed="rId3"/>
          <a:stretch/>
        </p:blipFill>
        <p:spPr>
          <a:xfrm>
            <a:off x="3892680" y="1916280"/>
            <a:ext cx="481464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Rectangle 2" descr=""/>
          <p:cNvPicPr/>
          <p:nvPr/>
        </p:nvPicPr>
        <p:blipFill>
          <a:blip r:embed="rId1"/>
          <a:stretch/>
        </p:blipFill>
        <p:spPr>
          <a:xfrm>
            <a:off x="298440" y="171360"/>
            <a:ext cx="8516880" cy="882720"/>
          </a:xfrm>
          <a:prstGeom prst="rect">
            <a:avLst/>
          </a:prstGeom>
          <a:ln w="0">
            <a:noFill/>
          </a:ln>
        </p:spPr>
      </p:pic>
      <p:grpSp>
        <p:nvGrpSpPr>
          <p:cNvPr id="266" name="Group 24"/>
          <p:cNvGrpSpPr/>
          <p:nvPr/>
        </p:nvGrpSpPr>
        <p:grpSpPr>
          <a:xfrm>
            <a:off x="285840" y="1426680"/>
            <a:ext cx="8858160" cy="4938120"/>
            <a:chOff x="285840" y="1426680"/>
            <a:chExt cx="8858160" cy="4938120"/>
          </a:xfrm>
        </p:grpSpPr>
        <p:graphicFrame>
          <p:nvGraphicFramePr>
            <p:cNvPr id="267" name="Object 25"/>
            <p:cNvGraphicFramePr/>
            <p:nvPr/>
          </p:nvGraphicFramePr>
          <p:xfrm>
            <a:off x="1224000" y="2241720"/>
            <a:ext cx="5724360" cy="280368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268" name="Object 2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24000" y="2241720"/>
                      <a:ext cx="5724360" cy="280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9" name="Line 26"/>
            <p:cNvSpPr/>
            <p:nvPr/>
          </p:nvSpPr>
          <p:spPr>
            <a:xfrm flipH="1" flipV="1">
              <a:off x="1763280" y="2241360"/>
              <a:ext cx="1081080" cy="840600"/>
            </a:xfrm>
            <a:prstGeom prst="line">
              <a:avLst/>
            </a:prstGeom>
            <a:ln w="28440">
              <a:solidFill>
                <a:srgbClr val="ff66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27"/>
            <p:cNvSpPr/>
            <p:nvPr/>
          </p:nvSpPr>
          <p:spPr>
            <a:xfrm>
              <a:off x="1030320" y="1709280"/>
              <a:ext cx="210168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12745"/>
                  </a:solidFill>
                  <a:latin typeface="Times New Roman"/>
                </a:rPr>
                <a:t>Машиностро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12745"/>
                  </a:solidFill>
                  <a:latin typeface="Times New Roman"/>
                </a:rPr>
                <a:t>27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28"/>
            <p:cNvSpPr/>
            <p:nvPr/>
          </p:nvSpPr>
          <p:spPr>
            <a:xfrm flipH="1" flipV="1">
              <a:off x="5005440" y="1890720"/>
              <a:ext cx="287280" cy="1106280"/>
            </a:xfrm>
            <a:prstGeom prst="line">
              <a:avLst/>
            </a:prstGeom>
            <a:ln w="28440">
              <a:solidFill>
                <a:srgbClr val="ff66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29"/>
            <p:cNvSpPr/>
            <p:nvPr/>
          </p:nvSpPr>
          <p:spPr>
            <a:xfrm>
              <a:off x="3467160" y="1426680"/>
              <a:ext cx="175428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12745"/>
                  </a:solidFill>
                  <a:latin typeface="Times New Roman"/>
                </a:rPr>
                <a:t>Металлургия</a:t>
              </a:r>
              <a:br>
                <a:rPr sz="1800"/>
              </a:br>
              <a:r>
                <a:rPr b="1" lang="ru-RU" sz="1800" spc="-1" strike="noStrike">
                  <a:solidFill>
                    <a:srgbClr val="ff66ff"/>
                  </a:solidFill>
                  <a:latin typeface="Times New Roman"/>
                </a:rPr>
                <a:t>         </a:t>
              </a:r>
              <a:r>
                <a:rPr b="1" lang="ru-RU" sz="1800" spc="-1" strike="noStrike">
                  <a:solidFill>
                    <a:srgbClr val="212745"/>
                  </a:solidFill>
                  <a:latin typeface="Times New Roman"/>
                </a:rPr>
                <a:t>8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30"/>
            <p:cNvSpPr/>
            <p:nvPr/>
          </p:nvSpPr>
          <p:spPr>
            <a:xfrm flipV="1">
              <a:off x="6516720" y="2451600"/>
              <a:ext cx="576360" cy="630720"/>
            </a:xfrm>
            <a:prstGeom prst="line">
              <a:avLst/>
            </a:prstGeom>
            <a:ln w="28440">
              <a:solidFill>
                <a:srgbClr val="ff66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31"/>
            <p:cNvSpPr/>
            <p:nvPr/>
          </p:nvSpPr>
          <p:spPr>
            <a:xfrm>
              <a:off x="5191200" y="1506600"/>
              <a:ext cx="216036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12745"/>
                  </a:solidFill>
                  <a:latin typeface="Times New Roman"/>
                </a:rPr>
                <a:t>Сельское хозяйство и продовольствие</a:t>
              </a:r>
              <a:br>
                <a:rPr sz="1800"/>
              </a:br>
              <a:r>
                <a:rPr b="1" lang="ru-RU" sz="1800" spc="-1" strike="noStrike">
                  <a:solidFill>
                    <a:srgbClr val="ff66ff"/>
                  </a:solidFill>
                  <a:latin typeface="Times New Roman"/>
                </a:rPr>
                <a:t>         </a:t>
              </a:r>
              <a:r>
                <a:rPr b="1" lang="ru-RU" sz="1800" spc="-1" strike="noStrike">
                  <a:solidFill>
                    <a:srgbClr val="212745"/>
                  </a:solidFill>
                  <a:latin typeface="Times New Roman"/>
                </a:rPr>
                <a:t>10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32"/>
            <p:cNvSpPr/>
            <p:nvPr/>
          </p:nvSpPr>
          <p:spPr>
            <a:xfrm flipV="1">
              <a:off x="6805440" y="3221280"/>
              <a:ext cx="719280" cy="140760"/>
            </a:xfrm>
            <a:prstGeom prst="line">
              <a:avLst/>
            </a:prstGeom>
            <a:ln w="28440">
              <a:solidFill>
                <a:srgbClr val="ff66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33"/>
            <p:cNvSpPr/>
            <p:nvPr/>
          </p:nvSpPr>
          <p:spPr>
            <a:xfrm>
              <a:off x="7380360" y="2351160"/>
              <a:ext cx="176364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12745"/>
                  </a:solidFill>
                  <a:latin typeface="Times New Roman"/>
                </a:rPr>
                <a:t>Строительные материалы </a:t>
              </a:r>
              <a:br>
                <a:rPr sz="1800"/>
              </a:br>
              <a:r>
                <a:rPr b="1" lang="ru-RU" sz="1800" spc="-1" strike="noStrike">
                  <a:solidFill>
                    <a:srgbClr val="212745"/>
                  </a:solidFill>
                  <a:latin typeface="Times New Roman"/>
                </a:rPr>
                <a:t>и изделия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12745"/>
                  </a:solidFill>
                  <a:latin typeface="Times New Roman"/>
                </a:rPr>
                <a:t>3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34"/>
            <p:cNvSpPr/>
            <p:nvPr/>
          </p:nvSpPr>
          <p:spPr>
            <a:xfrm>
              <a:off x="6732720" y="4708440"/>
              <a:ext cx="219528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12745"/>
                  </a:solidFill>
                  <a:latin typeface="Times New Roman"/>
                </a:rPr>
                <a:t>Химическая промышле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12745"/>
                  </a:solidFill>
                  <a:latin typeface="Times New Roman"/>
                </a:rPr>
                <a:t>14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35"/>
            <p:cNvSpPr/>
            <p:nvPr/>
          </p:nvSpPr>
          <p:spPr>
            <a:xfrm>
              <a:off x="6300720" y="3853800"/>
              <a:ext cx="647640" cy="908640"/>
            </a:xfrm>
            <a:prstGeom prst="line">
              <a:avLst/>
            </a:prstGeom>
            <a:ln w="28440">
              <a:solidFill>
                <a:srgbClr val="ff66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36"/>
            <p:cNvSpPr/>
            <p:nvPr/>
          </p:nvSpPr>
          <p:spPr>
            <a:xfrm>
              <a:off x="4500720" y="4064040"/>
              <a:ext cx="502920" cy="981360"/>
            </a:xfrm>
            <a:prstGeom prst="line">
              <a:avLst/>
            </a:prstGeom>
            <a:ln w="28440">
              <a:solidFill>
                <a:srgbClr val="ff66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37"/>
            <p:cNvSpPr/>
            <p:nvPr/>
          </p:nvSpPr>
          <p:spPr>
            <a:xfrm>
              <a:off x="4572000" y="4918680"/>
              <a:ext cx="219564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12745"/>
                  </a:solidFill>
                  <a:latin typeface="Times New Roman"/>
                </a:rPr>
                <a:t>Электротехника, электроника, связ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12745"/>
                  </a:solidFill>
                  <a:latin typeface="Times New Roman"/>
                </a:rPr>
                <a:t>15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38"/>
            <p:cNvSpPr/>
            <p:nvPr/>
          </p:nvSpPr>
          <p:spPr>
            <a:xfrm flipH="1">
              <a:off x="3276720" y="4064040"/>
              <a:ext cx="71280" cy="1261080"/>
            </a:xfrm>
            <a:prstGeom prst="line">
              <a:avLst/>
            </a:prstGeom>
            <a:ln w="28440">
              <a:solidFill>
                <a:srgbClr val="ff66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39"/>
            <p:cNvSpPr/>
            <p:nvPr/>
          </p:nvSpPr>
          <p:spPr>
            <a:xfrm>
              <a:off x="2411280" y="5393880"/>
              <a:ext cx="296892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12745"/>
                  </a:solidFill>
                  <a:latin typeface="Times New Roman"/>
                </a:rPr>
                <a:t>Лесная и деревообрабатывающая промышле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12745"/>
                  </a:solidFill>
                  <a:latin typeface="Times New Roman"/>
                </a:rPr>
                <a:t>3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40"/>
            <p:cNvSpPr/>
            <p:nvPr/>
          </p:nvSpPr>
          <p:spPr>
            <a:xfrm>
              <a:off x="285840" y="2463840"/>
              <a:ext cx="11523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12745"/>
                  </a:solidFill>
                  <a:latin typeface="Times New Roman"/>
                </a:rPr>
                <a:t>Проч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12745"/>
                  </a:solidFill>
                  <a:latin typeface="Times New Roman"/>
                </a:rPr>
                <a:t>14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41"/>
            <p:cNvSpPr/>
            <p:nvPr/>
          </p:nvSpPr>
          <p:spPr>
            <a:xfrm flipH="1" flipV="1">
              <a:off x="684360" y="3011040"/>
              <a:ext cx="1079280" cy="631800"/>
            </a:xfrm>
            <a:prstGeom prst="line">
              <a:avLst/>
            </a:prstGeom>
            <a:ln w="28440">
              <a:solidFill>
                <a:srgbClr val="ff66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42"/>
            <p:cNvSpPr/>
            <p:nvPr/>
          </p:nvSpPr>
          <p:spPr>
            <a:xfrm>
              <a:off x="468360" y="4876200"/>
              <a:ext cx="244800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12745"/>
                  </a:solidFill>
                  <a:latin typeface="Times New Roman"/>
                </a:rPr>
                <a:t>Продукция легкой промышлен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12745"/>
                  </a:solidFill>
                  <a:latin typeface="Times New Roman"/>
                </a:rPr>
                <a:t>6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43"/>
            <p:cNvSpPr/>
            <p:nvPr/>
          </p:nvSpPr>
          <p:spPr>
            <a:xfrm flipH="1">
              <a:off x="2050920" y="3994560"/>
              <a:ext cx="720720" cy="910440"/>
            </a:xfrm>
            <a:prstGeom prst="line">
              <a:avLst/>
            </a:prstGeom>
            <a:ln w="28440">
              <a:solidFill>
                <a:srgbClr val="ff66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10920" y="1196640"/>
            <a:ext cx="777708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Охраны жизни, здоровья и наследственности человека, имущества и охраны окружающей среды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Охраны жизни и стабильного развития животных и растений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Предотвращения обманной практики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Обеспечения единства измерений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Обеспечения национальной безопасности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Рационального использования ресурсов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Устранение технических барьеров в торговле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681120" y="298440"/>
            <a:ext cx="777852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610920" y="765000"/>
            <a:ext cx="7993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-    обязательности применения технических регламентов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добровольности применения гармонизированных документов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признания правомерности использования гармонизированных документов при проведении подтверждения соответствия обязательным требованиям технических регламентов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доступности технических регламентов и гармонизированных документов, информации о порядке их разработки, утверждения и опубликования для пользователей и иных заинтересованных лиц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приоритетного использования международных и национальных стандартов, гармонизированных с международными стандартами при разработке технических регламентов и гармонизированных документов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использования современных достижений науки и техники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пропорциональности и не дискриминации в международной торговле.  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290" name="Заголовок 2" descr=""/>
          <p:cNvPicPr/>
          <p:nvPr/>
        </p:nvPicPr>
        <p:blipFill>
          <a:blip r:embed="rId1"/>
          <a:stretch/>
        </p:blipFill>
        <p:spPr>
          <a:xfrm>
            <a:off x="969840" y="212760"/>
            <a:ext cx="7204320" cy="6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Схема 1" descr=""/>
          <p:cNvPicPr/>
          <p:nvPr/>
        </p:nvPicPr>
        <p:blipFill>
          <a:blip r:embed="rId1"/>
          <a:stretch/>
        </p:blipFill>
        <p:spPr>
          <a:xfrm>
            <a:off x="1085760" y="1390680"/>
            <a:ext cx="7101000" cy="4572000"/>
          </a:xfrm>
          <a:prstGeom prst="rect">
            <a:avLst/>
          </a:prstGeom>
          <a:ln w="0">
            <a:noFill/>
          </a:ln>
        </p:spPr>
      </p:pic>
      <p:sp>
        <p:nvSpPr>
          <p:cNvPr id="292" name="TextBox 3"/>
          <p:cNvSpPr/>
          <p:nvPr/>
        </p:nvSpPr>
        <p:spPr>
          <a:xfrm>
            <a:off x="1616760" y="476280"/>
            <a:ext cx="59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ИСТЕМА ТЕХНИЧЕСКОГО РЕГУЛ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539640" y="836280"/>
            <a:ext cx="806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Arial"/>
                <a:ea typeface="Arial"/>
              </a:rPr>
              <a:t>ТЕХНИЧЕСКИЙ РЕГЛАМЕНТ  «МАРКИРОВКА ПИЩЕВЫХ ПРОДУКТОВ»</a:t>
            </a:r>
            <a:endParaRPr b="0" lang="en-US" sz="1800" spc="-1" strike="noStrike">
              <a:solidFill>
                <a:srgbClr val="404040"/>
              </a:solidFill>
              <a:latin typeface="Cambria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Arial"/>
                <a:ea typeface="Arial"/>
              </a:rPr>
              <a:t>ТЕХНИЧЕСКИЙ РЕГЛАМЕНТ «СОКОВОЙ ПРОДУКЦИИ ИЗ ФРУКТОВ И (ИЛИ) ОВОЩЕЙ»</a:t>
            </a:r>
            <a:endParaRPr b="0" lang="en-US" sz="1800" spc="-1" strike="noStrike">
              <a:solidFill>
                <a:srgbClr val="404040"/>
              </a:solidFill>
              <a:latin typeface="Cambria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Arial"/>
                <a:ea typeface="Arial"/>
              </a:rPr>
              <a:t>ТЕХНИЧЕСКИЙ РЕГЛАМЕНТ «БЕЗОПАСНОСТЬ УПАКОВКИ» </a:t>
            </a:r>
            <a:endParaRPr b="0" lang="en-US" sz="1800" spc="-1" strike="noStrike">
              <a:solidFill>
                <a:srgbClr val="404040"/>
              </a:solidFill>
              <a:latin typeface="Cambria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Arial"/>
                <a:ea typeface="Arial"/>
              </a:rPr>
              <a:t>ТЕХНИЧЕСКИЙ РЕГЛАМЕНТ «БЕЗОПАСНОСТИ ПРОДУКЦИИ, ПРЕДНАЗНАЧЕННОЙ ДЛЯ ДЕТЕЙ И ПОДРОСТКОВ» </a:t>
            </a:r>
            <a:endParaRPr b="0" lang="en-US" sz="1800" spc="-1" strike="noStrike">
              <a:solidFill>
                <a:srgbClr val="404040"/>
              </a:solidFill>
              <a:latin typeface="Cambria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Arial"/>
                <a:ea typeface="Arial"/>
              </a:rPr>
              <a:t>ТЕХНИЧЕСКИЙ РЕГЛАМЕНТ «ТАБАЧНОЙ ПРОДУКЦИИ» </a:t>
            </a:r>
            <a:endParaRPr b="0" lang="en-US" sz="1800" spc="-1" strike="noStrike">
              <a:solidFill>
                <a:srgbClr val="404040"/>
              </a:solidFill>
              <a:latin typeface="Cambria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Arial"/>
                <a:ea typeface="Arial"/>
              </a:rPr>
              <a:t>ТЕХНИЧЕСКИЙ РЕГЛАМЕНТ «БЕЗОПАСНОСТИ КОРМОВ И КОРМОВЫХ ДОБАВОК»</a:t>
            </a:r>
            <a:endParaRPr b="0" lang="en-US" sz="1800" spc="-1" strike="noStrike">
              <a:solidFill>
                <a:srgbClr val="404040"/>
              </a:solidFill>
              <a:latin typeface="Cambria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Arial"/>
                <a:ea typeface="Arial"/>
              </a:rPr>
              <a:t>ТЕХНИЧЕСКИЙ РЕГЛАМЕНТ «БЕЗОПАСНОСТЬ ИГРУШЕК» </a:t>
            </a:r>
            <a:endParaRPr b="0" lang="en-US" sz="1800" spc="-1" strike="noStrike">
              <a:solidFill>
                <a:srgbClr val="404040"/>
              </a:solidFill>
              <a:latin typeface="Cambria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Arial"/>
                <a:ea typeface="Arial"/>
              </a:rPr>
              <a:t>ТЕХНИЧЕСКИЙ РЕГЛАМЕНТ «БЕЗОПАСНОСТЬ МЯСА И МЯСНОЙ ПРОДУКЦИИ»</a:t>
            </a:r>
            <a:endParaRPr b="0" lang="en-US" sz="1800" spc="-1" strike="noStrike">
              <a:solidFill>
                <a:srgbClr val="404040"/>
              </a:solidFill>
              <a:latin typeface="Cambria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Arial"/>
                <a:ea typeface="Arial"/>
              </a:rPr>
              <a:t>ТЕХНИЧЕСКИЙ РЕГЛАМЕНТ «СТРОИТЕЛЬНЫХ МАТЕРИАЛОВ И ИЗДЕЛИЙ»</a:t>
            </a:r>
            <a:endParaRPr b="0" lang="en-US" sz="1800" spc="-1" strike="noStrike">
              <a:solidFill>
                <a:srgbClr val="404040"/>
              </a:solidFill>
              <a:latin typeface="Cambria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294" name="Заголовок 2" descr=""/>
          <p:cNvPicPr/>
          <p:nvPr/>
        </p:nvPicPr>
        <p:blipFill>
          <a:blip r:embed="rId1"/>
          <a:stretch/>
        </p:blipFill>
        <p:spPr>
          <a:xfrm>
            <a:off x="817560" y="291960"/>
            <a:ext cx="7497720" cy="6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539640" y="549360"/>
            <a:ext cx="8064720" cy="53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Arial"/>
                <a:ea typeface="Arial"/>
              </a:rPr>
              <a:t>ТЕХНИЧЕСКИЙ РЕГЛАМЕНТ «БЕЗОПАСНОСТЬ МОЛОКА И МОЛОЧНОЙ ПРОДУКЦИИ» </a:t>
            </a:r>
            <a:endParaRPr b="0" lang="en-US" sz="1800" spc="-1" strike="noStrike">
              <a:solidFill>
                <a:srgbClr val="404040"/>
              </a:solidFill>
              <a:latin typeface="Cambria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Arial"/>
                <a:ea typeface="Arial"/>
              </a:rPr>
              <a:t>ТЕХНИЧЕСКИЙ РЕГЛАМЕНТ «БЕЗОПАСНОСТЬ ПИЩЕВОЙ ПРОДУКЦИИ»</a:t>
            </a:r>
            <a:endParaRPr b="0" lang="en-US" sz="1800" spc="-1" strike="noStrike">
              <a:solidFill>
                <a:srgbClr val="404040"/>
              </a:solidFill>
              <a:latin typeface="Cambria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Arial"/>
                <a:ea typeface="Arial"/>
              </a:rPr>
              <a:t>ТЕХНИЧЕСКИЙ РЕГЛАМЕНТ «БЕЗОПАСНОСТИ НИЗКОВОЛЬТНОГО ОБОРУДОВАНИЯ» </a:t>
            </a:r>
            <a:endParaRPr b="0" lang="en-US" sz="1800" spc="-1" strike="noStrike">
              <a:solidFill>
                <a:srgbClr val="404040"/>
              </a:solidFill>
              <a:latin typeface="Cambria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Arial"/>
                <a:ea typeface="Arial"/>
              </a:rPr>
              <a:t>ТЕХНИЧЕСКИЙ РЕГЛАМЕНТ «БЕЗОПАСНОСТИ АППАРАТОВ, РАБОТАЮЩИХ НА ГАЗООБРАЗНОМ ТОПЛИВЕ»</a:t>
            </a:r>
            <a:endParaRPr b="0" lang="en-US" sz="1800" spc="-1" strike="noStrike">
              <a:solidFill>
                <a:srgbClr val="404040"/>
              </a:solidFill>
              <a:latin typeface="Cambria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Arial"/>
                <a:ea typeface="Arial"/>
              </a:rPr>
              <a:t>ТЕХНИЧЕСКИЙ РЕГЛАМЕНТ «ТРЕБОВАНИЯ К БЕЗОПАСНОСТИ АВТОМОБИЛЬНОГО БЕНЗИНА, ДИЗЕЛЬНОГО ТОПЛИВА, МАЗУТА И ТОПЛИВА ДЛЯ РЕАКТИВНЫХ ДВИГАТЕЛЕЙ»</a:t>
            </a:r>
            <a:endParaRPr b="0" lang="en-US" sz="1800" spc="-1" strike="noStrike">
              <a:solidFill>
                <a:srgbClr val="404040"/>
              </a:solidFill>
              <a:latin typeface="Cambria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Arial"/>
                <a:ea typeface="Arial"/>
              </a:rPr>
              <a:t>ТЕХНИЧЕСКИЙ РЕГЛАМЕНТ «БЕЗОПАСНОСТИ МЕБЕЛЬНОЙ ПРОДУКЦИИ» </a:t>
            </a:r>
            <a:endParaRPr b="0" lang="en-US" sz="1800" spc="-1" strike="noStrike">
              <a:solidFill>
                <a:srgbClr val="404040"/>
              </a:solidFill>
              <a:latin typeface="Cambria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539640" y="1125000"/>
            <a:ext cx="784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Cambria"/>
              </a:rPr>
              <a:t>Технический регламент применяется одинаковым образом и в равной мере, независимо от страны и (или) место происхождения продукции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marL="343080" indent="-3430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Cambria"/>
              </a:rPr>
              <a:t>Требования утвержденного технического регламента являются обязательными для соблюдения всеми субъектами технического нормирования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marL="343080" indent="-3430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Cambria"/>
              </a:rPr>
              <a:t>При изготовлении продукции на экспорт, если условиями договора определены иные требования, чем те, которые установлены техническими регламентами, применяются условия договора, за исключением условий, противоречащих техническим регламентам в части требований к процессам производства, хранения и перевозки продукции, осуществляемым на територии Республики Таджикистан.  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297" name="Заголовок 2" descr=""/>
          <p:cNvPicPr/>
          <p:nvPr/>
        </p:nvPicPr>
        <p:blipFill>
          <a:blip r:embed="rId1"/>
          <a:stretch/>
        </p:blipFill>
        <p:spPr>
          <a:xfrm>
            <a:off x="817560" y="426960"/>
            <a:ext cx="7497720" cy="7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2" descr="qasri-millat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331308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23"/>
          <p:cNvSpPr/>
          <p:nvPr/>
        </p:nvSpPr>
        <p:spPr>
          <a:xfrm>
            <a:off x="395280" y="4221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1489f"/>
                </a:solidFill>
                <a:latin typeface="Tahoma"/>
              </a:rPr>
              <a:t>Спасибо за вним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"/>
          <p:cNvSpPr/>
          <p:nvPr/>
        </p:nvSpPr>
        <p:spPr>
          <a:xfrm>
            <a:off x="2971080" y="486900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1489f"/>
                </a:solidFill>
                <a:latin typeface="Arial"/>
              </a:rPr>
              <a:t>ДАВЛАТЗОДА РАХМОНШ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3"/>
          <p:cNvSpPr/>
          <p:nvPr/>
        </p:nvSpPr>
        <p:spPr>
          <a:xfrm>
            <a:off x="3789720" y="530064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hmir@lis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1127160" y="476280"/>
            <a:ext cx="6889680" cy="792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1042560" y="1341000"/>
            <a:ext cx="7201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306a"/>
                </a:solidFill>
                <a:latin typeface="Arial"/>
              </a:rPr>
              <a:t>Таджикистан (тадж. Тоҷикистон), официально Республика Таджикистан — государство в Центральной Азии, бывшая Таджикская Советская Социалистическая Республика в составе СССР. 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306a"/>
                </a:solidFill>
                <a:latin typeface="Arial"/>
              </a:rPr>
              <a:t>Таджикистан расположен в предгорьях Памира и не имеет выхода к морю. Это наименьшее по площади центральноазиатское государство. 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2"/>
          <a:stretch/>
        </p:blipFill>
        <p:spPr>
          <a:xfrm>
            <a:off x="1258920" y="4221000"/>
            <a:ext cx="2952720" cy="2125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"/>
          <p:cNvPicPr/>
          <p:nvPr/>
        </p:nvPicPr>
        <p:blipFill>
          <a:blip r:embed="rId3"/>
          <a:stretch/>
        </p:blipFill>
        <p:spPr>
          <a:xfrm>
            <a:off x="5076720" y="4218120"/>
            <a:ext cx="293220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960480" y="695160"/>
            <a:ext cx="7272360" cy="482472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1"/>
          <p:cNvSpPr/>
          <p:nvPr/>
        </p:nvSpPr>
        <p:spPr>
          <a:xfrm>
            <a:off x="934920" y="5548320"/>
            <a:ext cx="72741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306a"/>
                </a:solidFill>
                <a:latin typeface="Arial"/>
              </a:rPr>
              <a:t>Граничит с Узбекистаном и Киргизией на севере и западе, с Китаем на востоке, с Афганистаном — на юг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306a"/>
                </a:solidFill>
                <a:latin typeface="Arial"/>
              </a:rPr>
              <a:t>Столица — город</a:t>
            </a:r>
            <a:r>
              <a:rPr b="1" lang="ru-RU" sz="2000" spc="-1" strike="noStrike">
                <a:solidFill>
                  <a:srgbClr val="21306a"/>
                </a:solidFill>
                <a:latin typeface="Arial"/>
              </a:rPr>
              <a:t>  Душанбе</a:t>
            </a:r>
            <a:r>
              <a:rPr b="0" lang="ru-RU" sz="1800" spc="-1" strike="noStrike">
                <a:solidFill>
                  <a:srgbClr val="21306a"/>
                </a:solidFill>
                <a:latin typeface="Arial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1116000" y="281160"/>
            <a:ext cx="6985080" cy="7617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26920" y="907560"/>
            <a:ext cx="734544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9960" algn="just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2222"/>
                </a:solidFill>
                <a:latin typeface="Arial"/>
                <a:ea typeface="Arial"/>
              </a:rPr>
              <a:t>Таджикиста́н</a:t>
            </a:r>
            <a:r>
              <a:rPr b="0" lang="ru-RU" sz="2000" spc="-1" strike="noStrike">
                <a:solidFill>
                  <a:srgbClr val="222222"/>
                </a:solidFill>
                <a:latin typeface="Arial"/>
                <a:ea typeface="Arial"/>
              </a:rPr>
              <a:t> — индустриально-аграрная страна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marL="39960" algn="just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Arial"/>
                <a:ea typeface="Arial"/>
              </a:rPr>
              <a:t>За годы независимости сильно изменилась структура занятости, произошла индустриализация экономики. Начиная с 2000 годов наблюдается устойчивый экономический рост на уровне 5-7 %. Для развития экономики со стороны правительства были открыты 4 СЭЗ. Для субъектов СЭЗ дан ряд экономических привилегий. Они освобождены от налогов и таможенных сборов. Сняты все административные барьеры для развития СЭЗ. Достижения статуса страны, как индустриально-аграрной, обеспечит реализация Национальной стратегии развития Республики Таджикистан до 2030 года. 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2"/>
          <a:stretch/>
        </p:blipFill>
        <p:spPr>
          <a:xfrm>
            <a:off x="1017720" y="5084640"/>
            <a:ext cx="2319120" cy="1424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"/>
          <p:cNvPicPr/>
          <p:nvPr/>
        </p:nvPicPr>
        <p:blipFill>
          <a:blip r:embed="rId3"/>
          <a:stretch/>
        </p:blipFill>
        <p:spPr>
          <a:xfrm>
            <a:off x="3564000" y="5084640"/>
            <a:ext cx="2266920" cy="1424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4"/>
          <a:stretch/>
        </p:blipFill>
        <p:spPr>
          <a:xfrm>
            <a:off x="6048360" y="5084640"/>
            <a:ext cx="212400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4000" y="1988640"/>
            <a:ext cx="7848360" cy="39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Arial"/>
              </a:rPr>
              <a:t>Обеспечение устойчивого развития страны предполагает выбор научно обоснованных базовых принципов будущего развития национальной экономики и общества. В основу системного подхода разработки НСР-2030 положены три базовых принципа будущего развития: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  <a:ea typeface="Arial"/>
              </a:rPr>
              <a:t>превентивность,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Arial"/>
              </a:rPr>
              <a:t> или упреждение (снижение) уязвимости будущего развития;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  <a:ea typeface="Arial"/>
              </a:rPr>
              <a:t>индустриальность,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Arial"/>
              </a:rPr>
              <a:t> или повышение эффективности использования национальных ресурсов;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  <a:ea typeface="Arial"/>
              </a:rPr>
              <a:t>инновационность,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Arial"/>
              </a:rPr>
              <a:t> или развитие на основе нововведений во всех сферах социально-экономической жизни страны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236" name="Заголовок 2" descr=""/>
          <p:cNvPicPr/>
          <p:nvPr/>
        </p:nvPicPr>
        <p:blipFill>
          <a:blip r:embed="rId1"/>
          <a:stretch/>
        </p:blipFill>
        <p:spPr>
          <a:xfrm>
            <a:off x="755640" y="281160"/>
            <a:ext cx="717552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828720" y="208080"/>
            <a:ext cx="7559640" cy="1176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611280" y="1412640"/>
            <a:ext cx="79214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Целью государственного регулиро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является обеспече­ние правовой базы функционирования рыночной системы, ус­тановление легитимных и эффективных взаимоотношений между участниками рынка — поставщиками, производителями (исполнителями услуг) и потребителями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marL="4428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хническое регулирование уста­навливая строгие регуляторы формирования бизнеса в части безопасности, в то же время предоставляет максимальную свободу для бизнеса, развивая конкуренцию по видам деятель­ности, не представляющим потенциальную опасность для по­требителей. Техническое регулирование выполняет регули­рующую функцию между спросом и предложением, защищая при этом интересы как государства, так и бизнеса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marL="4428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спех государственного регулирования достигается при условии ба­зирования его на объективных экономических законах обще­ственного развития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39640" y="1699920"/>
            <a:ext cx="8136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Cambria"/>
              </a:rPr>
              <a:t>1. Закон РТ «О техническом нормировании» 19.05.2009г.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Cambria"/>
              </a:rPr>
              <a:t> № </a:t>
            </a:r>
            <a:r>
              <a:rPr b="0" lang="ru-RU" sz="2200" spc="-1" strike="noStrike">
                <a:solidFill>
                  <a:srgbClr val="212745"/>
                </a:solidFill>
                <a:latin typeface="Cambria"/>
              </a:rPr>
              <a:t>522  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Cambria"/>
              </a:rPr>
              <a:t>2. Закон РТ «О стандартизации» 29.12.2010г. № 668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Cambria"/>
              </a:rPr>
              <a:t>3. Закон РТ «Об оценке соответствия» 02.08.2011г.  № 759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Cambria"/>
              </a:rPr>
              <a:t>4. Закон РТ «О безопасности пищевых продуктов» 01.08.2012г. № 943 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Cambria"/>
              </a:rPr>
              <a:t>5. Закон РТ «Об обеспечении единства измерений» 15.05.1997г. № 435 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240" name="Заголовок 2" descr=""/>
          <p:cNvPicPr/>
          <p:nvPr/>
        </p:nvPicPr>
        <p:blipFill>
          <a:blip r:embed="rId1"/>
          <a:stretch/>
        </p:blipFill>
        <p:spPr>
          <a:xfrm>
            <a:off x="828720" y="285840"/>
            <a:ext cx="755964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610920" y="1066680"/>
            <a:ext cx="784836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Arial"/>
                <a:ea typeface="Arial"/>
              </a:rPr>
              <a:t>Республика Таджикистан 2 - марта 2013 года стала полноправным 159-ым членом Всемирной Торговой Организации.  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Arial"/>
                <a:ea typeface="Arial"/>
              </a:rPr>
              <a:t>ВТО прежде всего это создание открытой свободной и честной международной торговли, где все страны- члены имеют равные права и обязанности.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Arial"/>
                <a:ea typeface="Arial"/>
              </a:rPr>
              <a:t>Главная задача ВТО - это внедрение во всем мире единой системы правил торговли и торгово-экономических отношений.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Arial"/>
                <a:ea typeface="Arial"/>
              </a:rPr>
              <a:t>Принципы – равноправие, взаимность и прозрачность.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242" name="Заголовок 2" descr=""/>
          <p:cNvPicPr/>
          <p:nvPr/>
        </p:nvPicPr>
        <p:blipFill>
          <a:blip r:embed="rId1"/>
          <a:stretch/>
        </p:blipFill>
        <p:spPr>
          <a:xfrm>
            <a:off x="817560" y="268200"/>
            <a:ext cx="7174080" cy="7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11280" y="1425240"/>
            <a:ext cx="792936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Cambria"/>
              </a:rPr>
              <a:t>п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244" name="Заголовок 2" descr=""/>
          <p:cNvPicPr/>
          <p:nvPr/>
        </p:nvPicPr>
        <p:blipFill>
          <a:blip r:embed="rId1"/>
          <a:stretch/>
        </p:blipFill>
        <p:spPr>
          <a:xfrm>
            <a:off x="901800" y="285840"/>
            <a:ext cx="7175520" cy="103644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1"/>
          <p:cNvSpPr/>
          <p:nvPr/>
        </p:nvSpPr>
        <p:spPr>
          <a:xfrm>
            <a:off x="611280" y="1424160"/>
            <a:ext cx="7842240" cy="70956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ПРАВИТЕЛЬСТВО РЕСПУБЛИКИ ТАДЖИКИСТ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трелка вниз 3"/>
          <p:cNvSpPr/>
          <p:nvPr/>
        </p:nvSpPr>
        <p:spPr>
          <a:xfrm>
            <a:off x="4119480" y="2133720"/>
            <a:ext cx="622440" cy="57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4"/>
          <p:cNvSpPr/>
          <p:nvPr/>
        </p:nvSpPr>
        <p:spPr>
          <a:xfrm>
            <a:off x="611280" y="2708280"/>
            <a:ext cx="4608360" cy="8143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АГЕНТСТВО ПО СТАНДАРТИЗАЦИИ, МЕТРОЛОГИИ, СЕРТИФИКАЦИИ И ТОРГОВОЙ ИНСПЕ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6"/>
          <p:cNvSpPr/>
          <p:nvPr/>
        </p:nvSpPr>
        <p:spPr>
          <a:xfrm>
            <a:off x="6235560" y="2822400"/>
            <a:ext cx="2217960" cy="70020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ГП «НО АККРЕДИТА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Двойная стрелка влево/вправо 7"/>
          <p:cNvSpPr/>
          <p:nvPr/>
        </p:nvSpPr>
        <p:spPr>
          <a:xfrm>
            <a:off x="5219640" y="2938320"/>
            <a:ext cx="1015920" cy="419400"/>
          </a:xfrm>
          <a:prstGeom prst="leftRightArrow">
            <a:avLst>
              <a:gd name="adj1" fmla="val 50000"/>
              <a:gd name="adj2" fmla="val 49960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Стрелка вниз 9" descr=""/>
          <p:cNvPicPr/>
          <p:nvPr/>
        </p:nvPicPr>
        <p:blipFill>
          <a:blip r:embed="rId2"/>
          <a:stretch/>
        </p:blipFill>
        <p:spPr>
          <a:xfrm>
            <a:off x="2719440" y="3492360"/>
            <a:ext cx="395280" cy="1513080"/>
          </a:xfrm>
          <a:prstGeom prst="rect">
            <a:avLst/>
          </a:prstGeom>
          <a:ln w="0">
            <a:noFill/>
          </a:ln>
        </p:spPr>
      </p:pic>
      <p:sp>
        <p:nvSpPr>
          <p:cNvPr id="251" name="Блок-схема: процесс 8"/>
          <p:cNvSpPr/>
          <p:nvPr/>
        </p:nvSpPr>
        <p:spPr>
          <a:xfrm rot="16200000">
            <a:off x="-57960" y="4918680"/>
            <a:ext cx="2213280" cy="855720"/>
          </a:xfrm>
          <a:prstGeom prst="flowChartProcess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mbria"/>
              </a:rPr>
              <a:t>УПРАВЛЕНИЕ ТЕХНИЧЕСКОГО НОРМИРОАНИЯ И СТАНДАРТ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трелка вниз 10"/>
          <p:cNvSpPr/>
          <p:nvPr/>
        </p:nvSpPr>
        <p:spPr>
          <a:xfrm>
            <a:off x="826920" y="3522600"/>
            <a:ext cx="484200" cy="70668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трелка вниз 11"/>
          <p:cNvSpPr/>
          <p:nvPr/>
        </p:nvSpPr>
        <p:spPr>
          <a:xfrm>
            <a:off x="4232160" y="3500280"/>
            <a:ext cx="484200" cy="70668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Прямоугольник 12" descr=""/>
          <p:cNvPicPr/>
          <p:nvPr/>
        </p:nvPicPr>
        <p:blipFill>
          <a:blip r:embed="rId3"/>
          <a:stretch/>
        </p:blipFill>
        <p:spPr>
          <a:xfrm>
            <a:off x="4011480" y="4114800"/>
            <a:ext cx="932040" cy="240192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13" descr=""/>
          <p:cNvPicPr/>
          <p:nvPr/>
        </p:nvPicPr>
        <p:blipFill>
          <a:blip r:embed="rId4"/>
          <a:stretch/>
        </p:blipFill>
        <p:spPr>
          <a:xfrm>
            <a:off x="2511360" y="4194000"/>
            <a:ext cx="749520" cy="4602240"/>
          </a:xfrm>
          <a:prstGeom prst="rect">
            <a:avLst/>
          </a:prstGeom>
          <a:ln w="0">
            <a:noFill/>
          </a:ln>
        </p:spPr>
      </p:pic>
      <p:pic>
        <p:nvPicPr>
          <p:cNvPr id="256" name="Прямоугольник 29" descr=""/>
          <p:cNvPicPr/>
          <p:nvPr/>
        </p:nvPicPr>
        <p:blipFill>
          <a:blip r:embed="rId5"/>
          <a:stretch/>
        </p:blipFill>
        <p:spPr>
          <a:xfrm>
            <a:off x="6272280" y="4200480"/>
            <a:ext cx="933480" cy="2266920"/>
          </a:xfrm>
          <a:prstGeom prst="rect">
            <a:avLst/>
          </a:prstGeom>
          <a:ln w="0">
            <a:noFill/>
          </a:ln>
        </p:spPr>
      </p:pic>
      <p:pic>
        <p:nvPicPr>
          <p:cNvPr id="257" name="Прямоугольник 30" descr=""/>
          <p:cNvPicPr/>
          <p:nvPr/>
        </p:nvPicPr>
        <p:blipFill>
          <a:blip r:embed="rId6"/>
          <a:stretch/>
        </p:blipFill>
        <p:spPr>
          <a:xfrm>
            <a:off x="7523280" y="4200480"/>
            <a:ext cx="944280" cy="2266920"/>
          </a:xfrm>
          <a:prstGeom prst="rect">
            <a:avLst/>
          </a:prstGeom>
          <a:ln w="0">
            <a:noFill/>
          </a:ln>
        </p:spPr>
      </p:pic>
      <p:sp>
        <p:nvSpPr>
          <p:cNvPr id="258" name="Стрелка вниз 12287"/>
          <p:cNvSpPr/>
          <p:nvPr/>
        </p:nvSpPr>
        <p:spPr>
          <a:xfrm>
            <a:off x="6588000" y="3500280"/>
            <a:ext cx="243000" cy="68760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Стрелка вниз 12288"/>
          <p:cNvSpPr/>
          <p:nvPr/>
        </p:nvSpPr>
        <p:spPr>
          <a:xfrm>
            <a:off x="7869240" y="3500280"/>
            <a:ext cx="231840" cy="70812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трелка углом вверх 5"/>
          <p:cNvSpPr/>
          <p:nvPr/>
        </p:nvSpPr>
        <p:spPr>
          <a:xfrm flipV="1">
            <a:off x="4932360" y="4863240"/>
            <a:ext cx="647640" cy="365400"/>
          </a:xfrm>
          <a:custGeom>
            <a:avLst/>
            <a:gdLst/>
            <a:ahLst/>
            <a:rect l="l" t="t" r="r" b="b"/>
            <a:pathLst>
              <a:path w="647700" h="365125">
                <a:moveTo>
                  <a:pt x="0" y="273844"/>
                </a:moveTo>
                <a:lnTo>
                  <a:pt x="510778" y="273844"/>
                </a:lnTo>
                <a:lnTo>
                  <a:pt x="510778" y="91281"/>
                </a:lnTo>
                <a:lnTo>
                  <a:pt x="465138" y="91281"/>
                </a:lnTo>
                <a:lnTo>
                  <a:pt x="556419" y="0"/>
                </a:lnTo>
                <a:lnTo>
                  <a:pt x="647700" y="91281"/>
                </a:lnTo>
                <a:lnTo>
                  <a:pt x="602059" y="91281"/>
                </a:lnTo>
                <a:lnTo>
                  <a:pt x="602059" y="365125"/>
                </a:lnTo>
                <a:lnTo>
                  <a:pt x="0" y="365125"/>
                </a:lnTo>
                <a:lnTo>
                  <a:pt x="0" y="273844"/>
                </a:lnTo>
                <a:close/>
              </a:path>
            </a:pathLst>
          </a:custGeom>
          <a:solidFill>
            <a:srgbClr val="4e67c8"/>
          </a:solidFill>
          <a:ln w="15840">
            <a:solidFill>
              <a:srgbClr val="1c2b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Прямоугольник 14" descr=""/>
          <p:cNvPicPr/>
          <p:nvPr/>
        </p:nvPicPr>
        <p:blipFill>
          <a:blip r:embed="rId7"/>
          <a:stretch/>
        </p:blipFill>
        <p:spPr>
          <a:xfrm>
            <a:off x="4919760" y="5205240"/>
            <a:ext cx="1103040" cy="2554560"/>
          </a:xfrm>
          <a:prstGeom prst="rect">
            <a:avLst/>
          </a:prstGeom>
          <a:ln w="0">
            <a:noFill/>
          </a:ln>
        </p:spPr>
      </p:pic>
      <p:pic>
        <p:nvPicPr>
          <p:cNvPr id="262" name="Прямоугольник 17" descr=""/>
          <p:cNvPicPr/>
          <p:nvPr/>
        </p:nvPicPr>
        <p:blipFill>
          <a:blip r:embed="rId8"/>
          <a:stretch/>
        </p:blipFill>
        <p:spPr>
          <a:xfrm>
            <a:off x="1511280" y="4840200"/>
            <a:ext cx="914400" cy="32860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9" descr=""/>
          <p:cNvPicPr/>
          <p:nvPr/>
        </p:nvPicPr>
        <p:blipFill>
          <a:blip r:embed="rId9"/>
          <a:stretch/>
        </p:blipFill>
        <p:spPr>
          <a:xfrm>
            <a:off x="1476360" y="4478400"/>
            <a:ext cx="574560" cy="390600"/>
          </a:xfrm>
          <a:prstGeom prst="rect">
            <a:avLst/>
          </a:prstGeom>
          <a:ln w="0">
            <a:noFill/>
          </a:ln>
        </p:spPr>
      </p:pic>
      <p:pic>
        <p:nvPicPr>
          <p:cNvPr id="264" name="Прямоугольник 25" descr=""/>
          <p:cNvPicPr/>
          <p:nvPr/>
        </p:nvPicPr>
        <p:blipFill>
          <a:blip r:embed="rId10"/>
          <a:stretch/>
        </p:blipFill>
        <p:spPr>
          <a:xfrm>
            <a:off x="3078000" y="4218120"/>
            <a:ext cx="64620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3:57:17Z</dcterms:created>
  <dc:creator>Adiba</dc:creator>
  <dc:description/>
  <dc:language>en-US</dc:language>
  <cp:lastModifiedBy>Windows User</cp:lastModifiedBy>
  <dcterms:modified xsi:type="dcterms:W3CDTF">2017-05-30T09:40:41Z</dcterms:modified>
  <cp:revision>157</cp:revision>
  <dc:subject/>
  <dc:title>Слайд 1</dc:title>
</cp:coreProperties>
</file>